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412" spc="-1" strike="noStrike">
                <a:solidFill>
                  <a:srgbClr val="000000"/>
                </a:solidFill>
                <a:latin typeface="Arial"/>
              </a:defRPr>
            </a:pPr>
            <a:r>
              <a:rPr b="0" sz="1412" spc="-1" strike="noStrike">
                <a:solidFill>
                  <a:srgbClr val="000000"/>
                </a:solidFill>
                <a:latin typeface="Arial"/>
              </a:rPr>
              <a:t>GUAICURU</a:t>
            </a:r>
          </a:p>
        </c:rich>
      </c:tx>
      <c:layout>
        <c:manualLayout>
          <c:xMode val="edge"/>
          <c:yMode val="edge"/>
          <c:x val="0.449273650643675"/>
          <c:y val="0.020059390339979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417385142317"/>
          <c:y val="0.111690200593903"/>
          <c:w val="0.959804732097162"/>
          <c:h val="0.86788679473971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Guaicuru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43.55</c:v>
                </c:pt>
                <c:pt idx="1">
                  <c:v>8.87</c:v>
                </c:pt>
                <c:pt idx="2">
                  <c:v>9.52</c:v>
                </c:pt>
                <c:pt idx="3">
                  <c:v>41.46</c:v>
                </c:pt>
                <c:pt idx="4">
                  <c:v>47.32</c:v>
                </c:pt>
                <c:pt idx="5">
                  <c:v>53.72</c:v>
                </c:pt>
                <c:pt idx="6">
                  <c:v>96.08</c:v>
                </c:pt>
              </c:numCache>
            </c:numRef>
          </c:val>
        </c:ser>
        <c:gapWidth val="100"/>
        <c:overlap val="0"/>
        <c:axId val="40472760"/>
        <c:axId val="34764098"/>
      </c:barChart>
      <c:catAx>
        <c:axId val="4047276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64098"/>
        <c:crossesAt val="0"/>
        <c:auto val="1"/>
        <c:lblAlgn val="ctr"/>
        <c:lblOffset val="100"/>
        <c:noMultiLvlLbl val="0"/>
      </c:catAx>
      <c:valAx>
        <c:axId val="34764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7276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090" spc="-1" strike="noStrike">
                <a:solidFill>
                  <a:srgbClr val="000000"/>
                </a:solidFill>
                <a:latin typeface="Arial"/>
              </a:defRPr>
            </a:pPr>
            <a:r>
              <a:rPr b="0" sz="2090" spc="-1" strike="noStrike">
                <a:solidFill>
                  <a:srgbClr val="000000"/>
                </a:solidFill>
                <a:latin typeface="Arial"/>
              </a:rPr>
              <a:t>GUAICURU 2008</a:t>
            </a:r>
          </a:p>
        </c:rich>
      </c:tx>
      <c:layout>
        <c:manualLayout>
          <c:xMode val="edge"/>
          <c:yMode val="edge"/>
          <c:x val="0.391086965080115"/>
          <c:y val="0.019890520838978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417385142317"/>
          <c:y val="0.104492981410222"/>
          <c:w val="0.801700720444077"/>
          <c:h val="0.85512980326269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4</c:v>
                </c:pt>
                <c:pt idx="1">
                  <c:v>124</c:v>
                </c:pt>
                <c:pt idx="2">
                  <c:v>42</c:v>
                </c:pt>
                <c:pt idx="3">
                  <c:v>123</c:v>
                </c:pt>
                <c:pt idx="4">
                  <c:v>41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54</c:v>
                </c:pt>
                <c:pt idx="1">
                  <c:v>11</c:v>
                </c:pt>
                <c:pt idx="2">
                  <c:v>4</c:v>
                </c:pt>
                <c:pt idx="3">
                  <c:v>51</c:v>
                </c:pt>
                <c:pt idx="4">
                  <c:v>120</c:v>
                </c:pt>
              </c:numCache>
            </c:numRef>
          </c:val>
        </c:ser>
        <c:gapWidth val="100"/>
        <c:overlap val="0"/>
        <c:axId val="72327307"/>
        <c:axId val="4640117"/>
      </c:barChart>
      <c:catAx>
        <c:axId val="7232730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0117"/>
        <c:crossesAt val="0"/>
        <c:auto val="1"/>
        <c:lblAlgn val="ctr"/>
        <c:lblOffset val="100"/>
        <c:noMultiLvlLbl val="0"/>
      </c:catAx>
      <c:valAx>
        <c:axId val="4640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2730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41620408645329"/>
          <c:y val="0.4390547937781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86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674" spc="-1" strike="noStrike">
                <a:solidFill>
                  <a:srgbClr val="000000"/>
                </a:solidFill>
                <a:latin typeface="Arial"/>
              </a:defRPr>
            </a:pPr>
            <a:r>
              <a:rPr b="0" sz="1674" spc="-1" strike="noStrike">
                <a:solidFill>
                  <a:srgbClr val="000000"/>
                </a:solidFill>
                <a:latin typeface="Arial"/>
              </a:rPr>
              <a:t>GUAICURU 2009</a:t>
            </a:r>
          </a:p>
        </c:rich>
      </c:tx>
      <c:layout>
        <c:manualLayout>
          <c:xMode val="edge"/>
          <c:yMode val="edge"/>
          <c:x val="0.412779024447856"/>
          <c:y val="0.02000109295589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023699854336"/>
          <c:y val="0.122575004098585"/>
          <c:w val="0.829219322073934"/>
          <c:h val="0.83693097983496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12</c:v>
                </c:pt>
                <c:pt idx="1">
                  <c:v>121</c:v>
                </c:pt>
                <c:pt idx="2">
                  <c:v>102</c:v>
                </c:pt>
                <c:pt idx="3">
                  <c:v>33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53</c:v>
                </c:pt>
                <c:pt idx="1">
                  <c:v>65</c:v>
                </c:pt>
                <c:pt idx="2">
                  <c:v>98</c:v>
                </c:pt>
                <c:pt idx="3">
                  <c:v>216</c:v>
                </c:pt>
              </c:numCache>
            </c:numRef>
          </c:val>
        </c:ser>
        <c:gapWidth val="100"/>
        <c:overlap val="0"/>
        <c:axId val="499271"/>
        <c:axId val="8014724"/>
      </c:barChart>
      <c:catAx>
        <c:axId val="49927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4724"/>
        <c:crossesAt val="0"/>
        <c:auto val="1"/>
        <c:lblAlgn val="ctr"/>
        <c:lblOffset val="100"/>
        <c:noMultiLvlLbl val="0"/>
      </c:catAx>
      <c:valAx>
        <c:axId val="8014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27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69139010275186"/>
          <c:y val="0.42177168151265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3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73186-AE28-4AD4-8E18-7B45E0C2462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03320" y="695160"/>
            <a:ext cx="48481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AEB-CCAA-4690-B13C-CF88EEB2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C7A-73B6-4B6D-9104-253AA16D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9B2-EA66-42A4-B529-A69E97CE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00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00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2B4-C242-4F86-A996-6EB3DEF6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42840"/>
            <a:ext cx="705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069-CA18-42C9-AC67-7246AC78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700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872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700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872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AE9-97F6-4C73-B7F0-14A43A02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CD9-4796-436D-A10F-1D857C99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9BA-710A-412F-8A30-571405BC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42840"/>
            <a:ext cx="705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6369-F8DA-4A0F-ABAF-23E51AD4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B2C-923C-48A7-AED5-FB80D5A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52A-8089-41C2-A36F-CF1A92E2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3F7-FE83-402B-BB9F-05CE6945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200" y="6435360"/>
            <a:ext cx="1157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9/07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560" y="6435360"/>
            <a:ext cx="52531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280" y="6435360"/>
            <a:ext cx="5349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F7A98-9DAE-4E22-947D-4053FF906A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home/welitton/Documentos/segundo%20semestre%2009/Reuni&#245;es/Cronograma%20-%20PNTE.doc" TargetMode="External"/><Relationship Id="rId3" Type="http://schemas.openxmlformats.org/officeDocument/2006/relationships/hyperlink" Target="file:///home/welitton/Documentos/segundo%20semestre%2009/Reuni&#245;es/Cronograma%20-%20PSTE.doc" TargetMode="External"/><Relationship Id="rId4" Type="http://schemas.openxmlformats.org/officeDocument/2006/relationships/hyperlink" Target="file:///home/welitton/Documentos/segundo%20semestre%2009/Reuni&#245;es/Cronograma%20-%20completo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2000" y="1197000"/>
            <a:ext cx="648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GUAICURU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NAURILÂNDIA - 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300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-6336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ados conclu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900000"/>
          <a:ext cx="9144000" cy="59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979560"/>
            <a:ext cx="587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las disponíveis e execu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79280"/>
          <a:ext cx="9144000" cy="664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20720" y="6300720"/>
            <a:ext cx="521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71440"/>
          <a:ext cx="9144000" cy="6586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-322200"/>
            <a:ext cx="70567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3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ronograma de ação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0"/>
            <a:ext cx="70567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588960"/>
          <a:ext cx="9183600" cy="6269040"/>
        </p:xfrm>
        <a:graphic>
          <a:graphicData uri="http://schemas.openxmlformats.org/drawingml/2006/table">
            <a:tbl>
              <a:tblPr/>
              <a:tblGrid>
                <a:gridCol w="3759120"/>
                <a:gridCol w="3313080"/>
                <a:gridCol w="2111400"/>
              </a:tblGrid>
              <a:tr h="437760"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Ê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925560">
                <a:tc>
                  <a:txBody>
                    <a:bodyPr lIns="90000" rIns="90000" tIns="252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ontro entre Professores Regentes e das STEs para reflexão sobre o trabalho desenvolvido na STE, trocas de experiências e sugestões de atividade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ar um intercâmbio entre os professores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IL e JUL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3200">
                <a:tc>
                  <a:txBody>
                    <a:bodyPr lIns="90000" rIns="90000" tIns="252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Módulo I: internet como ferramenta de pesqui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instrumental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3560">
                <a:tc>
                  <a:txBody>
                    <a:bodyPr lIns="90000" rIns="90000" tIns="252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Módulo II: paint, power point,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instrumental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3200">
                <a:tc>
                  <a:txBody>
                    <a:bodyPr lIns="90000" rIns="90000" tIns="252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Módulo III: movie ma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instrumental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3560">
                <a:tc>
                  <a:txBody>
                    <a:bodyPr lIns="90000" rIns="90000" tIns="252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s avançados – Módulo I:  b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instrumental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3200">
                <a:tc>
                  <a:txBody>
                    <a:bodyPr lIns="90000" rIns="90000" tIns="2520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s avançados – Módulo II: wikispa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instrumental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 E NOV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89000"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icina da informática na educaçã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strar os avanços e soluções para a utilização da tecnologia no ambiente esco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536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93760" y="174600"/>
            <a:ext cx="885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RONOGRAMA DO PLANO DE AÇÃO DOS PSTEs DA EE GUAIC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fessores Alcidinéia e Luiz Car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89000"/>
            <a:ext cx="7056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27664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494172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72072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03280" y="-179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71720" y="50720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213372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5157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720720"/>
            <a:ext cx="80996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6840" y="2798640"/>
            <a:ext cx="25131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914400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0360" y="-24300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1760" y="4929120"/>
            <a:ext cx="3000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486900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900000"/>
            <a:ext cx="9144000" cy="59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0"/>
            <a:ext cx="7056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680" y="471492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27664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5157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1160" y="539640"/>
            <a:ext cx="9132840" cy="631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0:53:38Z</dcterms:created>
  <dc:creator>Luciana Catarino</dc:creator>
  <dc:description/>
  <dc:language>en-US</dc:language>
  <cp:lastModifiedBy>Luciana Catarino</cp:lastModifiedBy>
  <dcterms:modified xsi:type="dcterms:W3CDTF">2009-07-28T20:01:25Z</dcterms:modified>
  <cp:revision>24</cp:revision>
  <dc:subject/>
  <dc:title>EE BRAZ SINIGÁGLIA BATAYPORÃ - MS</dc:title>
</cp:coreProperties>
</file>